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FBC-859A-49D0-8C34-C5C05D35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111-FE45-4431-A967-D71A982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B28-5589-48E4-A9D3-6286B6F8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3D4-8903-4948-95D2-B90D0AA7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29A-9588-4AD9-B9D9-1F39D6D7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83C-F570-4F86-9828-15251F3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F0E-3FE2-4181-8E5F-3F80AA86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DDA-4465-48BE-AD41-6A2AB240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949-4DD4-4179-A0F4-F4398C3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A77-6013-443E-969A-B306F3B8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DC2-0D22-410D-8965-B60E3FFE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02A-CB1F-4988-BD80-3D4DD8A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FD4-EE00-42A4-8CD7-97427A00F27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5943600" cy="522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oosing Quality Children’s Trade Book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how Originalit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hildren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que characters or sit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show them the world from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que view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e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ldren’s minds, giving them new ways to think about the world and new possibilities to think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70D-9A09-4D73-9DDC-03CC83DF16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ow Can We Judge “Quality”?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ce of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inative use of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auty of literary and artistic style that enable book to remain fresh, interesting, and meaningful for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EF6-8A24-4319-8EFC-77615ABE0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Get to know children’s literature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and enjoy children’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children’s books with a sens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a variety of book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books for a wide variety of 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 with your colleagues how you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respond to particular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by reading several boo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of “good”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k with children about book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6C7-6997-46B3-860F-C53F340651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733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ildren’s Literature Award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Book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Newber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k judged to be the most distinguished contribution to children’s literature published in the U.S. during the previou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rah, Plain and 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Patricia MacLach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hipping Bo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Sid Fleisch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Louis Sa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utstanding example of Fiction and Non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Pop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Avi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ssing M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Cynthia Ry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iction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journer Truth:  Ain’t I a Wo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atricia &amp; Fredrick McKiss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DCE-694D-4EF5-80A0-5FA7DD9504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Illustrations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lph Caldecot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ed to the illustrator of the most distinguished children’s book published the previou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icer Buckle and Glo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Peggy Rat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wl 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ane Y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utstanding example of 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dfather’s Jour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Alan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faro’s Beautiful Daugh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oh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513-1294-4FC9-9851-366B66595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or “New Talent” in Children’s Writing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Reading Association Children’s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old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tters from Rif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young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eet Clara and the Freedom Qui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Deborah Hopkinson, Illustrated by James Ran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informational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oklyn Bri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Elizabeth 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zra Jack Keats New Writer’s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ing new writer who has had six or fewer children’s book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 B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Faith Ring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B84-3E6D-465A-A296-6B24814C7D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frican American Authors/Illustrator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oks that encourage understanding and appreciation of people of all cultures and the pursuit of “the American Dre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riend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Mildred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Young Landl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Walter Dean M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DB7-D409-4239-96E2-CC39BB89EB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o Author/Illustrator for Entire Body of Work: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s Christian Andersen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uthor and one illustrator in recognition of an entire body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: Paula Fox, Virginia Hamilton, Scott O’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s:  Mitsumasa Anno, Lisbeth Zw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r illustrator whose works have made a substantial and lasting contribution to children’s literature over a period of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euss, Virginia Hamilton, E. B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105-47E4-4046-9DC8-E1D8E5D623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ng a Classroom Library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ime for a little thinking…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one of your favorite books from Grades 3-6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quality piec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ldren’s lit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books are in a high-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Grades 3-6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/pair/share with your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C16-45E6-40AE-A874-06FE273FC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 Well-Rounded, Interesting Classroom Library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rn, realistic literature as well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ith different type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of vary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gen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hose characters realistical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ict various cultural group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that meet students’ rea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C03-96F7-42F7-8531-1CAC2B4D9C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s and religiou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les (proverbs explicitly stated at the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ktales (word of mouth, unknown ori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quoi Ta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phen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 Tales and Legends (greatly exaggerated accounts of heros and legen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 tales (repeating and adding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y tales (folktales that involve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enticeship/Hero tales (character rise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wly to high estate, or from ignored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atened to recognized/rewarded for g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C00-2CAF-4099-83D3-01B5C4CE0C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ist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ical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ntasy and science 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 (depending o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6B0-A130-4445-B6FC-2F9D3BE2C2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ferent types of texts require different ways of understanding and recalling the most important idea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rrativ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ository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B39-8FA4-476E-A396-14F0485958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is a narrative text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d on life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-oriented using dialogue and familiar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ritten in first, second, or third per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ent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ell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n aesthetic exper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ory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D28-C4B5-4445-85B2-C986C52E2A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tory Grammar/Story Structure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0AE-7C35-48FD-8E01-374A6E0BC9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ess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(characters, setting,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(ev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(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C90-B4C1-4215-B331-F727C91E5A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ore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(antagonist/protagonist), setting, problem (conflict), initiat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points, crisis, rising action, climax, subplot, parallel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, falling action,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E62-8887-4956-ADED-8687BD0CC5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is an expository text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f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tographic e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nvey information about the natural and soci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facts, details, opinions, and examples to inform or persu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aried text patterns (e.g., time order, enumeration, compare/contrast, cause/effect, problem/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7DC-D3D4-41E9-9001-FD94892644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763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across both types of texts, good readers use at least five metacognitive comprehension strategies…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homework is to find out what these are (Chapter 1).  And come prepared with 2 questions predicting what Thursday’s readings will be about (preview Chapter 2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E8-33A4-45BF-9B39-D13F685D36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Constitutes “Children’s” Literature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 protagonist and an issue that concern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forward story line, with a linear and limited time sequence in a confined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that is concrete and vivid and not overly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, C., Martinez, M., Yokota, J., &amp; Naylor, A. (1998).  Children’s book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hildren’s hands.  Boston:  Allyn and Ba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55F-DCB1-474D-B92F-28E21A417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ow Do We Recognize “Quality” Children’s literature?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enjoyable read that doesn’t overly teach or mor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dy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origi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D42-A253-40EB-8387-28A6FC551D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Expand Awarenes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hildren names for things in the world and for their ow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hildren inside other character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children’s understanding of the world and their capacit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43F-0F22-45A5-9C16-4EF6BBC5B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rovide an Enjoyable Read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 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way that is not overly contrived or mor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sson rather than te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E54-CAE8-4E97-BCF3-B092C92A13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ell the Truth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eal with significant truths abou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gh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ooks imply are accurate, and, perhap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975-DB27-4B94-9EEA-99DD3B400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Embody Qualit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ecisely chosen, often poetic in their sound and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i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bel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ich and 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CE8-448C-4093-B75C-5493A5707F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ve Integrity  </a:t>
            </a:r>
            <a:br>
              <a:rPr sz="3600"/>
            </a:b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nse of bo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ness or completenes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re, plot, language, characters, style, theme, illustrations (if any) come together to creat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tisfying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ness of moral charac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9CB-1F4E-4DBC-8BCD-7BAB2F7589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9:59:22Z</dcterms:created>
  <dc:creator>SOE</dc:creator>
  <dc:description/>
  <dc:language>en-US</dc:language>
  <cp:lastModifiedBy>Julie Coiro</cp:lastModifiedBy>
  <cp:lastPrinted>2008-01-22T03:05:00Z</cp:lastPrinted>
  <dcterms:modified xsi:type="dcterms:W3CDTF">2008-01-22T16:20:07Z</dcterms:modified>
  <cp:revision>20</cp:revision>
  <dc:subject/>
  <dc:title>Choosing Quality Children’s Trade Books</dc:title>
</cp:coreProperties>
</file>